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C6E-ACB3-4332-B11B-ED0E1EC8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0EF-06BB-4BBA-92F9-2619332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ED1-3237-4E7E-BC27-E7FA2872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BCC-0640-4FDD-B9DF-7E14074A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98E-655F-4CA3-8555-B3C7D6FF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3DB-42D4-44A9-A405-C475ED02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9FB-5E85-4181-87B6-B78680B9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D91-ED36-467F-839F-67B4F8A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8C0-AB38-4F64-A7F3-C110617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D15-E130-441D-A1B5-7006E6F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3AF-58B2-4FAC-B06D-0F8BBA1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C52-D6FB-4671-83D0-B43BA89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A3C4-1CC0-42B5-A690-56E0DA49A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5943600"/>
            <a:ext cx="2057400" cy="78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3890" t="16669" r="65281" b="73019"/>
          <a:stretch/>
        </p:blipFill>
        <p:spPr>
          <a:xfrm>
            <a:off x="533520" y="30492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igate to the correct mont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the title of th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990720" y="1600200"/>
            <a:ext cx="10972800" cy="6019920"/>
            <a:chOff x="-990720" y="1600200"/>
            <a:chExt cx="10972800" cy="60199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rcRect l="13890" t="16669" r="15973" b="19447"/>
            <a:stretch/>
          </p:blipFill>
          <p:spPr>
            <a:xfrm>
              <a:off x="533520" y="1600200"/>
              <a:ext cx="769608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rcRect l="0" t="66671" r="0" b="0"/>
            <a:stretch/>
          </p:blipFill>
          <p:spPr>
            <a:xfrm>
              <a:off x="-990720" y="4876920"/>
              <a:ext cx="109728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 flipH="1">
            <a:off x="2895480" y="1295280"/>
            <a:ext cx="1447920" cy="4038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4582" t="15741" r="15973" b="20370"/>
          <a:stretch/>
        </p:blipFill>
        <p:spPr>
          <a:xfrm>
            <a:off x="457200" y="152388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ign up for the class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Sign Up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ed Help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y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 Ex or Tech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nda Forsyth, Prof. De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3890" t="16669" r="65281" b="75929"/>
          <a:stretch/>
        </p:blipFill>
        <p:spPr>
          <a:xfrm>
            <a:off x="685800" y="4419720"/>
            <a:ext cx="7543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8752" t="13891" r="22254" b="11113"/>
          <a:stretch/>
        </p:blipFill>
        <p:spPr>
          <a:xfrm>
            <a:off x="1066680" y="0"/>
            <a:ext cx="7159680" cy="682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2666880"/>
            <a:ext cx="3809880" cy="35053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Visit     http://www.mylearningpl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13890" t="15741" r="15278" b="29632"/>
          <a:stretch/>
        </p:blipFill>
        <p:spPr>
          <a:xfrm>
            <a:off x="457200" y="1600200"/>
            <a:ext cx="8686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Username:  john.doe@twinriversusd.or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Password:  chang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3194" t="16669" r="14582" b="28705"/>
          <a:stretch/>
        </p:blipFill>
        <p:spPr>
          <a:xfrm>
            <a:off x="457200" y="1905120"/>
            <a:ext cx="792468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1981080" y="1600200"/>
            <a:ext cx="137160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582" t="16669" r="14582" b="36111"/>
          <a:stretch/>
        </p:blipFill>
        <p:spPr>
          <a:xfrm>
            <a:off x="533520" y="1600200"/>
            <a:ext cx="8610480" cy="502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Change Passwor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&gt;Enter current &amp; new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600200"/>
            <a:ext cx="533520" cy="335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My User Profi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&gt;Make sure information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3194" t="16669" r="15973" b="20370"/>
          <a:stretch/>
        </p:blipFill>
        <p:spPr>
          <a:xfrm>
            <a:off x="457200" y="1733400"/>
            <a:ext cx="8686800" cy="504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523520" y="1523880"/>
            <a:ext cx="20574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a Check in front of your Building, Department &amp;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9085" t="16669" r="15973" b="29566"/>
          <a:stretch/>
        </p:blipFill>
        <p:spPr>
          <a:xfrm>
            <a:off x="457200" y="16002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5251" t="12001" r="15251" b="13003"/>
          <a:stretch/>
        </p:blipFill>
        <p:spPr>
          <a:xfrm>
            <a:off x="831960" y="-3240"/>
            <a:ext cx="8007120" cy="648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04920" y="3048120"/>
            <a:ext cx="3809880" cy="35049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Learning Plan Ta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 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3890" t="15741" r="15973" b="20370"/>
          <a:stretch/>
        </p:blipFill>
        <p:spPr>
          <a:xfrm>
            <a:off x="457200" y="160020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066320" y="1371600"/>
            <a:ext cx="297180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6:02Z</dcterms:created>
  <dc:creator>Sarah DiRuscio</dc:creator>
  <dc:description/>
  <dc:language>en-US</dc:language>
  <cp:lastModifiedBy>Sarah DiRuscio</cp:lastModifiedBy>
  <dcterms:modified xsi:type="dcterms:W3CDTF">2009-01-13T23:32:34Z</dcterms:modified>
  <cp:revision>5</cp:revision>
  <dc:subject/>
  <dc:title>Slide 1</dc:title>
</cp:coreProperties>
</file>